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30F-8AAA-451B-949E-E4847B64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38E-62C7-4679-9880-81E2A9CE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471-D5E4-4C3B-8327-99AE1165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9D2A-5449-4A6D-80C0-651F193B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2C1E-8870-44EC-A0B7-D82DAE3F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7C92-6354-4464-8D7A-62B0161F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2E69-D511-4B20-B69F-6482C31F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C069-BEA1-4E4E-A932-F708FD42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60F6-69E0-4BFF-9CCE-15B518D7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53E6-1C2D-44DF-AD76-F8BD79B2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E65F-7922-472E-9EEA-D53517D9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783-527F-4517-AC61-BC2938C9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2B46-ACA6-4073-95DA-DEB02A92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5EE9-9498-4B62-BCC5-A604E3D2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6071-0E40-4926-B14E-AF940415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CACB-9A29-40E8-AEBF-03ABE48F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5344-0741-4DD8-B484-E061B2E3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9F6-DA53-450C-B829-D22C034D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1DD-A9D6-4B83-94AE-AD8BE252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2EF-6213-48DD-9796-43F5AB76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291-3458-447C-91D5-8BAE92E9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84D-6501-471A-99DA-293B02A4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DA6-8246-4303-BE39-442AB7E5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810-C760-4BC7-9740-AD0B7FB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922B-7F92-4AD0-9FF3-84445A9CCAA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BF85-D3E7-4CC3-87FD-D3B7E8788CA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evistaescola.abril.com.br/historia/pratica-pedagogica/viagem-tempo-espaco-423238.shtml" TargetMode="External"/><Relationship Id="rId2" Type="http://schemas.openxmlformats.org/officeDocument/2006/relationships/hyperlink" Target="http://revistaescola.abril.com.br/edicoes-impressas/210.s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DIVULGAÇÃO DA PESQUISA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99"/>
                </a:solidFill>
                <a:latin typeface="Verdana"/>
              </a:rPr>
              <a:t>PROJETO: UMA VIAGEM NO TEMPO E NO ESPAÇO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99"/>
                </a:solidFill>
                <a:latin typeface="Verdana"/>
              </a:rPr>
              <a:t>Centro Educacional Sesi 80, em Ribeirão Pires-SP.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pt-BR" sz="3200" spc="-1" strike="noStrike">
                <a:solidFill>
                  <a:srgbClr val="006699"/>
                </a:solidFill>
                <a:latin typeface="Verdana"/>
              </a:rPr>
              <a:t>Professora: Iara Rodrigues Alho Lopes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Elisabete cano Sabino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CONTEÚDOS : 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As grandes navegações. Modos e costumes do século 16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DESENVOLVIDO NO ANO 4º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TEMPO ESTIMADO</a:t>
            </a:r>
            <a:r>
              <a:rPr b="1" lang="pt-BR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 - Três mese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MATERIAL NECESSÁRIO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: Relatos de viagens da época, retroprojetor, imagens de caravelas, papel pardo, canetas hidrocor, lápis de cor, pincéis e mapa-múndi, jornais, livros, revistas e interne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ATIVIDADES</a:t>
            </a:r>
            <a:r>
              <a:rPr b="1" lang="pt-BR" sz="3200" spc="-1" strike="noStrike">
                <a:solidFill>
                  <a:srgbClr val="006699"/>
                </a:solidFill>
                <a:latin typeface="Verdana"/>
              </a:rPr>
              <a:t>: 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Pesquisa, leitura, desenhos, produção de texto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006699"/>
                </a:solidFill>
                <a:latin typeface="Verdana"/>
              </a:rPr>
              <a:t>PRODUTO FINAL :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 Livro com textos escritos pelos aluno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77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o projeto é utilizadas as tecnologias inserindo os alunos e os pais nas atividades de forma prazerosa e educativa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 professora faz uma preparação da turma antes de inserir o projeto, essa atividade é importante para que os alunos se manifestem sobre o tema e fiquem motivados para discutir o assunto.  No  desenvolvimento os alunos conheceram  as grandes navegações do século 16 e a perceberam a dinâmica da história e a transformação das condições de vida e da tecnologia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 projeto poderá ser adaptado a todos os anos do Ensino Fundamental  e  de acordo com o ano  em que o aluno esta inserido o professor aumentará o aprofundamento do enredo da história e da  pesquisa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 projeto foi título de Educadora Nota 10 no Prêmio Victor Civita do ano de 2007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Fonte: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revistaescola.abril.com.br/historia/pratica-pedagogica/viagem-tempo-espaco-423238.shtml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cesso: 31/05/2009 às 13:40 horas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dição revista Escola: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Edição 210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 | 03/2008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7:46:45Z</dcterms:created>
  <dc:creator>sistema</dc:creator>
  <dc:description/>
  <dc:language>en-US</dc:language>
  <cp:lastModifiedBy>sistema</cp:lastModifiedBy>
  <dcterms:modified xsi:type="dcterms:W3CDTF">2009-05-31T18:37:41Z</dcterms:modified>
  <cp:revision>2</cp:revision>
  <dc:subject/>
  <dc:title>DIVULGAÇÃO DA PESQUISA</dc:title>
</cp:coreProperties>
</file>